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BF0-B0D0-4FC7-AD11-11BF2C4D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D71-592D-4E21-BC22-54E17F61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D38-7B3A-455D-81EF-FC65A31B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2FE-CEA7-4F34-AC96-C25EC39E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A46C-F0C4-4394-AD3E-4ED43100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6A9E-FD65-4ED4-B2D7-940B31BD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CD92-F580-4435-B31D-81A6B812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920B-79E3-406A-9F8A-A0FB72C9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F1E0-5DBD-4F05-BE08-C16E4F0E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DDCF-F86A-4611-A023-774FB81A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569D-0083-424C-8104-FDEB26B6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185-6DF0-40C4-9FA0-BF48666A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4863-0BA1-4D8B-BE67-64858995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9339-A006-44C4-80F3-D423631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4CD7-0483-4EC5-B93D-4D1EE6CF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F067-EB5C-4E82-9A06-BBA6CDB9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C50E-9E97-40F7-B280-B0FFE1D3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742-28BA-4262-ADB3-71C68AF5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575-99C0-4D32-9C39-C68D060A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B67-85F2-4C83-B0F3-6E4D95DC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E774-CC11-424C-96DE-B1830E93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6F8-63C0-4ADD-96DB-4CFD68D0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1C1-8569-46DC-8843-CBAA0C70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350-07D6-4021-9DB9-8B8BF45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6B67-D4A9-45DD-85AE-A5EDF3A14A2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3DEF-9493-4545-99E1-EF3C127CDA8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www.PHILka.RU</cp:lastModifiedBy>
  <dcterms:modified xsi:type="dcterms:W3CDTF">2011-10-14T03:55:34Z</dcterms:modified>
  <cp:revision>5</cp:revision>
  <dc:subject/>
  <dc:title>Возможности использования компьютерной техники в офисах фирм.</dc:title>
</cp:coreProperties>
</file>